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8AC4-F2E5-4919-95C3-F49A6328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5BD-20D3-4EEF-8307-BAA9773A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28A6-5880-4030-B93C-3BBCE52D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F32C-214C-4F4D-B7A5-07673977F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8814E-D756-45B9-9A5E-8045CE36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5D5594-98B1-4EDA-A126-AF9D2FC9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96A17F-4E38-4938-B0E9-6E82E0D0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39B412-ED16-425A-8DF2-F0CD490B9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EF275D-619E-4739-8948-6D830BCC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6024D4-9E95-45D4-BC54-E6C351F86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022D89-7395-467A-98A9-F70C6E5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ADC9-4225-4F5D-93A2-B17211A7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712A3F-4053-400C-AF3A-1103C7A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C51305-EAB6-45DB-A03D-7DA6982A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DCA2C-0373-4C9E-84D3-9F1D810C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48F52-4C0F-4478-B80B-64272080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E423A-8ED5-4BC7-B388-6456FFBE3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305-8765-4484-988C-E66AFE52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15F4-7988-4961-A935-F25988987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1408-7C65-4905-9ACB-D54F4FE1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10D3-1F0A-4F30-A852-FF61294E8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5801-888F-428C-9667-4ECFDFED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87F4-7CF6-4C14-8C6D-82ACF091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2446-11B2-4426-863E-9994BDFDE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01E9-DBC3-4F6D-B755-B9B736AA1B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4e7ed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de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B9C1E-BA7D-40E8-BFD3-922DD7D223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образова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инградский район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яя общеобразовательная школа № 10 х. Куликовског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образования Ленинградский район</a:t>
            </a:r>
            <a:endParaRPr b="0" lang="en-US" sz="1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«Алфави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Гласные  и  согласные звуки» </a:t>
            </a:r>
            <a:br>
              <a:rPr sz="3200"/>
            </a:br>
            <a:r>
              <a:rPr b="1" i="1" lang="ru-RU" sz="2800" spc="-1" strike="noStrike">
                <a:solidFill>
                  <a:srgbClr val="ff0000"/>
                </a:solidFill>
                <a:latin typeface="Tahoma"/>
              </a:rPr>
              <a:t> 5 клас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нисимова Т.А.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  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Написать творческую работу – сочинение-миниатюру о любых буквах алфавит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4000" spc="-1" strike="noStrike">
                <a:solidFill>
                  <a:srgbClr val="c00000"/>
                </a:solidFill>
                <a:latin typeface="Tahoma"/>
              </a:rPr>
              <a:t>Спасибо  за  работу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Tahoma"/>
              </a:rPr>
              <a:t>Источники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Русский язык учебник в 3-х частях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5 класс/ Львова С.И., Львов В.В. –  Москва.-  Мнемозина.- 201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znanija.com/task/102612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7760" y="151920"/>
            <a:ext cx="4343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ff0000"/>
                </a:solidFill>
                <a:latin typeface="Tahoma"/>
              </a:rPr>
              <a:t>Беседа</a:t>
            </a:r>
            <a:endParaRPr b="0" lang="en-US" sz="6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лфавит – альфа+ вита (греч)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ahoma"/>
              </a:rPr>
              <a:t>Азбука – аз+ бук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91960"/>
            <a:ext cx="693432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Работа над темой урока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егодня  мы  продолжим  наш      разговор  о  звуках  реч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 какие  две  группы  делятся  звуки  реч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        </a:t>
            </a: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Звуки  реч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i="1" lang="ru-RU" sz="3200" spc="-1" strike="noStrike">
                <a:solidFill>
                  <a:srgbClr val="c00000"/>
                </a:solidFill>
                <a:latin typeface="Tahoma"/>
              </a:rPr>
              <a:t>гласные                          согласны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62320" y="152280"/>
            <a:ext cx="49528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4e7ed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Гласные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548640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сложном мире звуков речи гласным «живется» легче, так как, образуясь, они на своем пути не встречают никаких преград – воздух свободно идет через ро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ласных звуков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6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а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о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э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и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ы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, [</a:t>
            </a:r>
            <a:r>
              <a:rPr b="1" i="1" lang="ru-RU" sz="3600" spc="-1" strike="noStrike">
                <a:solidFill>
                  <a:srgbClr val="c00000"/>
                </a:solidFill>
                <a:latin typeface="Tahoma"/>
              </a:rPr>
              <a:t>у</a:t>
            </a:r>
            <a:r>
              <a:rPr b="1" i="1" lang="en-US" sz="3600" spc="-1" strike="noStrike">
                <a:solidFill>
                  <a:srgbClr val="c00000"/>
                </a:solidFill>
                <a:latin typeface="Tahoma"/>
              </a:rPr>
              <a:t>]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Задание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роизнесите  каждый  гласный звук  в  отдельности. Проверьте правильность высказывания С.Марша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«дыхание  свободно  в  каждой  гласной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52280"/>
            <a:ext cx="5715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de66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Согласные  звуки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0480" cy="5333760"/>
          </a:xfrm>
          <a:prstGeom prst="rect">
            <a:avLst/>
          </a:prstGeom>
          <a:solidFill>
            <a:srgbClr val="b13f9a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личие  от  гласных, при  образовании на    своем пути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встречают препятстви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: губы, зубы, язы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и  произношении согласного  нужно  хоть  чуть-чуть приоткрыть  рот, из-за  чего </a:t>
            </a:r>
            <a:r>
              <a:rPr b="1" i="1" lang="ru-RU" sz="2800" spc="-1" strike="noStrike">
                <a:solidFill>
                  <a:srgbClr val="c00000"/>
                </a:solidFill>
                <a:latin typeface="Tahoma"/>
              </a:rPr>
              <a:t>получается шум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c00000"/>
                </a:solidFill>
                <a:latin typeface="Tahoma"/>
              </a:rPr>
              <a:t>Задание.</a:t>
            </a:r>
            <a:r>
              <a:rPr b="0" lang="ru-RU" sz="2800" spc="-1" strike="noStrike">
                <a:solidFill>
                  <a:srgbClr val="c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лесу, если вы заблудились, кричите «Ау».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пробуйте прокричать, используя только согласные звуки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ф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, [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к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]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Почему не получилось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тобы кричать, нужен голос, а у согласных его почти нет, один шум имеет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Отгадай мультфильмы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2Р - с - л - чк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р - с - в - ц - - ч - д - в - щ -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Ч - п - Д - йл сп - ш - т н - п - м - щ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К - н - к - л - в Пр - ст - кв - ш - н 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Н -, п - г - д -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ыполнение теста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ahoma"/>
              </a:rPr>
              <a:t>В каком ряду фамилии расположены строго в алфавитном порядке? </a:t>
            </a:r>
            <a:endParaRPr b="0" lang="en-US" sz="36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ahoma"/>
              </a:rPr>
              <a:t>I вариант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 Соколова, Степанов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Соколова, Степанов, Цыганков, Федот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Степанов, Соколова, Федотов, Цыган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Соколова, Федотов, Цыганков, Степ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Tahoma"/>
              </a:rPr>
              <a:t>II вариант:</a:t>
            </a:r>
            <a:endParaRPr b="0" lang="en-US" sz="44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.Михалков, Миронов, ЛиньковЛановой.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. Линьков, Лановой, Михалков, Миро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. Лановой, Линьков, мирон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. Лановой, Миронов, Линьков, Михалк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4e7ed"/>
                </a:solidFill>
                <a:latin typeface="Tahoma"/>
              </a:rPr>
              <a:t>       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Подведение итогов.</a:t>
            </a:r>
            <a:br>
              <a:rPr sz="4000"/>
            </a:br>
            <a:r>
              <a:rPr b="1" lang="ru-RU" sz="4000" spc="-1" strike="noStrike">
                <a:solidFill>
                  <a:srgbClr val="ffde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4e7e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2209680"/>
            <a:ext cx="7010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Итак, что такое алфавит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ля чего мы должны его хорошо знать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de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де нам пригодятся наши знан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03-20T00:43:27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